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2DDA-90BB-4482-82FC-03813F7C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6E97-BFAB-4B89-887B-0D6C2CF4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721B-DF79-412A-89E0-966EE2B4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D190-379B-4FA8-877D-D5924F08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3D1D-4E04-48D8-BFD4-91E59CBC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C4B0-E3A1-4E30-9B03-AD79C6B5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8064-0CA1-4E8E-B00C-36389B26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95F2-58C5-48EE-AABD-D9102F43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9B75-1D60-4A2A-B2BE-75A50A81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F3DE-9D54-4EC1-AEA2-6428F4F4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ABE9-E90A-4DE2-8C29-F08BEAB2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ABDA-EAD2-49B1-BF84-4612515A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27DD-42AC-416C-90AE-8AEE9E0C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97AF-1742-4DE0-851D-5A2C76BA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8161-27BE-4B15-9C42-EB6E49AF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D7DD-AFCA-403A-9B7C-AABB3412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62C1-2986-4A9D-B404-DCA2FEC4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622C-23D7-45D9-9841-13A76045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057D-4781-4D65-8926-FE1C0A8F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86C0D-2A8E-4D88-87BB-1A5CF049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47EC-A089-44B9-8952-C2F558ED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9B5D-A7BF-49D9-BB17-F3FCCA96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A100-9B52-4CAC-924B-E4347B15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FF69-31D9-48ED-89B6-E8B45C3F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622D-B192-4890-BA17-6D8334A24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91C0-A8DD-4599-B8FE-3FA511092C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formatique quantiqu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gorithmes et avant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64: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nalyse par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Bell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u paradoxe EP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instein-Podosky-Rose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82-83: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découverte des possibilités de cryptograph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uantique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Bennet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eynma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étudie la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simulation universel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’aide d’ordinateurs quan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85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Deutsch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pose les premières « por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ogiques quantiques » qui permett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velopper un modèle d’ordinateur univer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D870-8318-47A1-B6DB-6C811BD7A6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8435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94: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transformée de Fourier quantiqu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oppersmith et Deutsch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Shor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tilise celle-ci dans un algorithm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permettant de déterminer la période d’un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fo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et algorithme permettrait de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asser RSA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e application pratique important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96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olutions aux pertes de cohérence par la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rrection  d’erreurs quantique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Shor et Kitaev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88-?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éalisation pratique d’un ordinateur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F9FF-15D9-4909-BB01-C17103F389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F196-8CC3-49FF-9589-A9E8C645FF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qubit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est un système à deux états quantiques c-à-d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vecteur    à un espace complexe de Hilbert bidimens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Ordinateur quantique univer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ensemble de    qubits dans lequel les opé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uivantes peuvent être réalisées expérimenta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aque qubit peut être préparé dans un état con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aque qubit peut être mesuré dans la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n ensemble de portes logiques universelles peut être appliqué à n’importe quel sous-ensemble de qu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s qubits ne peuvent évoluer autrement que via les        transformation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156960" cy="185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627280" y="3279600"/>
            <a:ext cx="216000" cy="149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8604360" y="4029120"/>
            <a:ext cx="288720" cy="263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7667640" y="4484520"/>
            <a:ext cx="936720" cy="23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3294-3366-4F89-AFB4-000B6F83B5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rincipe de Turing-Chu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« Tout système physique réalisable fi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eut être simulé de façon arbitra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roche par un ordinateur univers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utilisant des ressources finies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23AA-1E4F-4EC0-B445-18C615D27F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ortes univers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’utilisation répétée d’une PU sur différentes combinaisons de qubits peut générer l’action de toutes les autres po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lassiquement, seule une porte non linéaire à </a:t>
            </a: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bits peut être réversible et univers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porte de Toff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402000" y="4797360"/>
            <a:ext cx="2610000" cy="13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F7A9-A69C-465E-823E-CB4A1F3480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14716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ortes quantiques univers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) Porte de Deutsch (basée sur l’idée de Toffo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ù on suppose    incommensurable av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n peut choisir la           puissance de R pour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rte de Toff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Porte univers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03280" y="2428920"/>
            <a:ext cx="1352520" cy="1400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992320" y="4229280"/>
            <a:ext cx="787680" cy="293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308720" y="4300560"/>
            <a:ext cx="1587600" cy="291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627280" y="3868560"/>
            <a:ext cx="127080" cy="211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084720" y="3935520"/>
            <a:ext cx="216000" cy="149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780000" y="2933640"/>
            <a:ext cx="2449440" cy="3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1A1A6-7C48-493E-B3EF-23F1722260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42920" y="2712960"/>
            <a:ext cx="2276640" cy="1771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91880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2) Construction d’une porte quantique de Deutsch à part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 portes à 2 qu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e comporte comme une porte de Deutsch o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Impossible dans le cas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3106800"/>
            <a:ext cx="5791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où </a:t>
            </a: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est un opérateur unitaire conditionnel et </a:t>
            </a: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est un NOT conditionnel (CNO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813120" y="3228840"/>
            <a:ext cx="216000" cy="189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71640" y="4622760"/>
            <a:ext cx="2305080" cy="357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767640" y="4118040"/>
            <a:ext cx="1215720" cy="3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131C-EB3D-4AD4-9E4C-68CD1F6B2A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3) Construction d’une porte     contôlée à partir de portes à 1 qubit et de portes CN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 combinaison de portes CNOT à 2 qubits avec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rtes opérateur unitaire est donc adéquate pour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éalisation universelle d’algorithmes quant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329000" y="2111400"/>
            <a:ext cx="271440" cy="237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00000" y="3052800"/>
            <a:ext cx="2371680" cy="1085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419640" y="3102120"/>
            <a:ext cx="5518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où           et      sont des opérateurs unitaires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922560" y="3218040"/>
            <a:ext cx="576360" cy="215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003640" y="31748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4457880" y="3751200"/>
            <a:ext cx="3206520" cy="27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3BAB-0BC4-4867-976D-886E533174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27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hénomène d’int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 plupart des systèmes composites sont non-sé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446720" y="3444840"/>
            <a:ext cx="3778200" cy="1712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966960" y="4057560"/>
            <a:ext cx="3238200" cy="32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D8D5-D771-4093-8C41-8382994D87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88F2-DE1E-40D6-818B-C0D2121E79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7244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énomène d’intricatio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it un système    constitué de deux états séparés    e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t les états appartiennent à des espaces de Hilb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éparés (b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fait un ensemble complet de mesures sur    et  séparément (ex. observables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fait un ensemble conjoint de mesures sur    et    (ex. observables           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803680" y="2151000"/>
            <a:ext cx="179280" cy="193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697880" y="3436920"/>
            <a:ext cx="250560" cy="250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416720" y="210672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8064360" y="2139840"/>
            <a:ext cx="220680" cy="193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8339040" y="3465360"/>
            <a:ext cx="225360" cy="196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2682720" y="2967120"/>
            <a:ext cx="1036800" cy="325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1684440" y="5440320"/>
            <a:ext cx="2923920" cy="293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1652760" y="4245120"/>
            <a:ext cx="3000240" cy="30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5281560" y="3743280"/>
            <a:ext cx="881280" cy="318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>
            <a:off x="3589200" y="4948200"/>
            <a:ext cx="1640160" cy="3571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7686720" y="46656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8326440" y="4697280"/>
            <a:ext cx="210960" cy="1843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1700280" y="5753160"/>
            <a:ext cx="3139920" cy="45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1051-D7C4-4056-B6C4-426CC4DAF5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orte de Hadam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cas particulier de la matrice de rotation génér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 unitaire évidem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ur    qubits, 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ette porte est utilisée pour la superposition des ét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itia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71880" y="2511360"/>
            <a:ext cx="2825640" cy="846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57480" y="3946680"/>
            <a:ext cx="234720" cy="163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754360" y="4403880"/>
            <a:ext cx="4040280" cy="66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E0C9-BC24-471B-B860-5AEF4973D1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Interaction avec l’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ffets non unitai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pola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Émission sponta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coh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pérateurs d’évolution non uni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jection de la mesure non orthog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7F14-5952-4B26-8C7E-2319C48873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3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avec l’environnement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55640" y="2852640"/>
          <a:ext cx="7696080" cy="2432160"/>
        </p:xfrm>
        <a:graphic>
          <a:graphicData uri="http://schemas.openxmlformats.org/drawingml/2006/table">
            <a:tbl>
              <a:tblPr/>
              <a:tblGrid>
                <a:gridCol w="2815920"/>
                <a:gridCol w="1125720"/>
                <a:gridCol w="1878120"/>
                <a:gridCol w="187632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fr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éc</a:t>
                      </a: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s par porte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As 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In piég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vité opt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 d’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un point quant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 nuclé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36B5-11F3-4388-8A5F-A74C0670C1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F23E-A85D-4540-8845-4400EC33BB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iège à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ED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ints quan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’ordinateur de K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Jonctions Joseph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pological quantum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955960" y="2422440"/>
            <a:ext cx="384156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6469D-21D0-43B9-AE97-DCF90C2E78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nstruction d’une porte C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élange de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H,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3C,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9F,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5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N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Hamiltonien d’interaction spin-spin dû au nuage d’électr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195640" y="2627280"/>
            <a:ext cx="2881080" cy="1457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259680" y="981000"/>
            <a:ext cx="19126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944720" y="5013360"/>
            <a:ext cx="5796000" cy="3826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2916360" y="5457960"/>
            <a:ext cx="1871640" cy="257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2411280" y="6021360"/>
            <a:ext cx="3635640" cy="28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A55E-890F-4171-B177-026F525AF2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nstruction d’une porte CNOT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ors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 combinant avec l’opérateur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        et en appliquant une porte de Hadamard  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à 2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n obtient une porte C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11280" y="2505240"/>
            <a:ext cx="7921440" cy="1139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124000" y="1963800"/>
            <a:ext cx="1452600" cy="279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6084720" y="4359240"/>
            <a:ext cx="287640" cy="222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3492360" y="4819680"/>
            <a:ext cx="2062440" cy="264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5076720" y="3936960"/>
            <a:ext cx="2824200" cy="35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6C653-A5FA-40BB-93CE-23E049CBF5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per l’évolution tempor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olution tempore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application de l’opérate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art et d’autre, on renverse l’évolution tempor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un spin u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deux spins coupl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620720" y="2509920"/>
            <a:ext cx="6264360" cy="774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289080" cy="165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356000" y="4437000"/>
            <a:ext cx="2689200" cy="378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843280" y="5551560"/>
            <a:ext cx="5256000" cy="46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0A896-66E7-420D-BE22-77F8C92506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topper l’évolution temporell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tilisation de 2 matrices de Hadamard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et - 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ur le blocage compl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877080" y="2133720"/>
            <a:ext cx="297000" cy="2300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146640" y="2119320"/>
            <a:ext cx="297000" cy="23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5867280" y="3068640"/>
          <a:ext cx="2371680" cy="2367000"/>
        </p:xfrm>
        <a:graphic>
          <a:graphicData uri="http://schemas.openxmlformats.org/drawingml/2006/table">
            <a:tbl>
              <a:tblPr/>
              <a:tblGrid>
                <a:gridCol w="473040"/>
                <a:gridCol w="474840"/>
                <a:gridCol w="476280"/>
                <a:gridCol w="474480"/>
                <a:gridCol w="473040"/>
              </a:tblGrid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4356000" y="4508640"/>
            <a:ext cx="116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365436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D3DF-846F-47FE-9582-FFB9AD3C0E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: limitations de l’informatique clas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91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Loi de Mo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mposants de plus en plus pet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on atteint la limite des effets quantique (cf réduction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taille de l’oxyde MOS et effet tunnel par exe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lution possib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: nano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= astuces pour conserver les mécanismes class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(conduction, diffusion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SINON changer complètement mécanismes et utiliser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propriétés quantiqu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QUE QUANTIQUE (Q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C524-6257-461C-A001-DCA62C6BB1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AFC9-9BB8-4409-BAAA-7B9F0864B3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Algorith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lèmes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lasse P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améliore mais ne change pas la cla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Grover (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lèmes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lasse NP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change la classe du problème de la factorisati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imulateur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 »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tiliser le parallélisme pour simuler les effets quantiques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Lloyd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tuellement, uniquement des idées de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1752480" cy="3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B959-29C8-4A4C-BF3E-F0F57E47B8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ryp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Joue sur l’intrication de qubits et sur la natur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tructive de la me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tuellement, uniquement des idées de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rrection d’err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des correcteurs (cf décohé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mpressio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7F12-5ABE-4E15-A7EA-A2A2EBB84E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FAB7-83FB-490D-B378-2F3BA673B06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ucun intérêt concret mais réalisé expérimentalement avec un qu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nction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e (0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2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1) vers 0 ou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èm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déterminer quelle proposition est vraie (ou une quelconque si les deux sont vra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ition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) 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’est pas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) 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’est pas équilib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36467-46AC-496D-B118-2463348A0D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6544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éthode classiqu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 moins N+1 évaluations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éthode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ux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 registre de n+1 qubits (0 à 2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 registre de 1 qubit (évaluation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ement préparés dans l’é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003640" y="5373720"/>
            <a:ext cx="28908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E546-E7BA-4FBE-B529-0B09DD66C51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43588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    au premier registre pour obtenir l’état to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perposition des ét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 de f dans le deuxième regi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ation unitaire du deuxième regi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132000" y="5300640"/>
            <a:ext cx="2959200" cy="596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259000" y="2349360"/>
            <a:ext cx="297000" cy="230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397240" y="2781360"/>
            <a:ext cx="4190760" cy="690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539640" y="6165720"/>
            <a:ext cx="304920" cy="2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35F08-DF75-4F88-B218-938EEC14D0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d’une phase condi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veau calcul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équivalent au calcul de l’inve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26920" y="3017880"/>
            <a:ext cx="7417080" cy="7714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84360" y="5410080"/>
            <a:ext cx="784836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27BC-BDE1-4810-A2D4-DD6F43E2DE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Étap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ransformation de Hadamard inve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esure individuelle de tous les qubits du premier regi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abilité que tous les qubits soient à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55640" y="5738760"/>
            <a:ext cx="7488360" cy="507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40160" y="3065400"/>
            <a:ext cx="2617920" cy="4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359D-7D94-456E-B57C-48C55FE7E00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568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nstante </a:t>
            </a: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équilibrée </a:t>
            </a: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us les qubits mesurés sont à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n’est pas équilibrée </a:t>
            </a:r>
            <a:r>
              <a:rPr b="0" i="1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 (B) vra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u moins de qubits est à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n’est pas constante </a:t>
            </a:r>
            <a:r>
              <a:rPr b="0" i="1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 (A) vra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olution du problème avec une seule évaluation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célération exponentielle grâce au parallélisme quantique dans l’évaluation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543640" cy="7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2C32D-FCDC-4C59-B1EF-CBBB0AD7E8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411280" y="3068640"/>
            <a:ext cx="4032360" cy="216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3068640"/>
            <a:ext cx="4032360" cy="216000"/>
          </a:xfrm>
          <a:prstGeom prst="rect">
            <a:avLst/>
          </a:prstGeom>
          <a:solidFill>
            <a:srgbClr val="779f9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3068640"/>
            <a:ext cx="439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3284640"/>
            <a:ext cx="439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944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344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852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58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84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5804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784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8944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834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707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4712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8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07040" y="285264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2997360"/>
            <a:ext cx="503280" cy="576000"/>
          </a:xfrm>
          <a:prstGeom prst="ellipse">
            <a:avLst/>
          </a:prstGeom>
          <a:solidFill>
            <a:srgbClr val="779f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: limitations de l’informatique clas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chine de 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3357720"/>
            <a:ext cx="1800360" cy="2879640"/>
          </a:xfrm>
          <a:prstGeom prst="rect">
            <a:avLst/>
          </a:prstGeom>
          <a:solidFill>
            <a:srgbClr val="779f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3357720"/>
            <a:ext cx="360360" cy="2735280"/>
          </a:xfrm>
          <a:prstGeom prst="rect">
            <a:avLst/>
          </a:prstGeom>
          <a:solidFill>
            <a:srgbClr val="779f92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3789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4294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4797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5302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5805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9800" y="3789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9800" y="4294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49800" y="4797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9800" y="5302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9800" y="5805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407664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416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1440" y="400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364000" y="400500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944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9272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2F8E8-601B-461C-B57E-7EC532668E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DA7C-54BE-4CB7-8959-71CB9FAA936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T quantique (QF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4014360"/>
            <a:ext cx="822960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      est le produit de deux nom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tte formule est utilisée dans de nombreuses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es en informatique quan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984240" y="4170240"/>
            <a:ext cx="419040" cy="2667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547640" y="2479680"/>
            <a:ext cx="6409080" cy="12366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9640" y="1700280"/>
            <a:ext cx="66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ransformation unitaire sur     qubits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356000" y="1866960"/>
            <a:ext cx="287280" cy="19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2BE1C-DCC6-4AB3-9A3A-9399ADAB86C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1B34-3EAC-4A6F-A957-786C7F3947F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 (199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ver dans une liste non structurée 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éléments        un élément particu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es éléments au hasard, un par 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093080" y="2206800"/>
            <a:ext cx="287280" cy="222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2916360" y="257508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492960" y="2560680"/>
            <a:ext cx="1116000" cy="4096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90920" y="4559400"/>
            <a:ext cx="1293840" cy="3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AEC4-FBAC-4FC0-A8AC-9A1349961B2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lace les différentes positions de la liste dans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e quantique, qu’on place dans une superposition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les états      représentent la position de l’élément dans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 e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979640" y="4114800"/>
            <a:ext cx="5056200" cy="5461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2157480" y="5033880"/>
            <a:ext cx="398520" cy="2764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3564000" y="5562720"/>
            <a:ext cx="230328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B990-353E-4F00-892B-DB046FCAEBF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es 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a l’opérateur unitaire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la suite de transform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le signe de tous les composants sau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184320" cy="198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165400" y="3357720"/>
            <a:ext cx="4638600" cy="336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8028000" y="5470560"/>
            <a:ext cx="28908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0008-9FED-44E0-BEC7-148D87BFEA2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es logique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applique        ,                         fois,               et l’é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que est donc pres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292560" y="2865600"/>
            <a:ext cx="2935080" cy="347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3348000" y="3335400"/>
            <a:ext cx="2808360" cy="3412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627280" y="4040280"/>
            <a:ext cx="432000" cy="3031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3276720" y="3995640"/>
            <a:ext cx="2016000" cy="347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940360" y="4032360"/>
            <a:ext cx="1079640" cy="311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4427640" y="4487760"/>
            <a:ext cx="233280" cy="2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7F75-68A9-4973-B231-63A884EBF0F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é d’erreur dans la mesure de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1244520" cy="4096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807160" y="2781360"/>
            <a:ext cx="272880" cy="2872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00720" y="2781360"/>
            <a:ext cx="1224000" cy="36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480D-AAC1-471E-81E0-E5309B2C0F0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E34F-A32D-41B7-8F88-F94F049EA13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 (19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ver la péri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d’une fonction entiè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riodi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class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e méthode analy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valuer          pour         valeurs de    et découvrir qu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fonction se rép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138560" y="2238480"/>
            <a:ext cx="217440" cy="1951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2771640" y="5445000"/>
            <a:ext cx="2003400" cy="468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4354560" y="2637000"/>
            <a:ext cx="2305080" cy="3902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1979640" y="4365720"/>
            <a:ext cx="719280" cy="350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6"/>
          <a:stretch/>
        </p:blipFill>
        <p:spPr>
          <a:xfrm>
            <a:off x="3490920" y="4413240"/>
            <a:ext cx="576360" cy="3110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5610240" y="4448160"/>
            <a:ext cx="208080" cy="1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3A37-6073-4668-B057-CEC4BFBBF23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 de règ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a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fini d’états inter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an d’entré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composé de symboles bin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placement suivant du ruban dans la dir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eut également défini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          est la sor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une machine de Turing quand l’entrée est le ruban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hine de Turing universe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ordinateur universel capable de simuler le comportement de n’importe quel au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2089080" cy="280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508720" y="2517840"/>
            <a:ext cx="269640" cy="236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532720" y="2997360"/>
            <a:ext cx="198360" cy="198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851280" y="2997360"/>
            <a:ext cx="216000" cy="176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8244000" y="3368520"/>
            <a:ext cx="203040" cy="276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140360" y="3789360"/>
            <a:ext cx="577800" cy="314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5292720" y="3789360"/>
            <a:ext cx="720720" cy="320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7669080" y="4332240"/>
            <a:ext cx="216000" cy="176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3132000" y="6021360"/>
            <a:ext cx="2951280" cy="366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5435640" y="4724280"/>
            <a:ext cx="325440" cy="2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A58C-895D-492A-8A08-0267D95542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835280" y="4365720"/>
            <a:ext cx="291960" cy="266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2195640" y="3645000"/>
            <a:ext cx="468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95640" y="4508640"/>
            <a:ext cx="30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16360" y="3357720"/>
            <a:ext cx="4316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96000" y="342900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27640" y="429084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3280" y="364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97080" y="342900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72280" y="42926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fr-BE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5076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1832040" y="3500280"/>
            <a:ext cx="291960" cy="2667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7022520" y="3429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67960" y="42861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h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2195640" y="3716280"/>
            <a:ext cx="136440" cy="1112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2195640" y="4581360"/>
            <a:ext cx="136440" cy="1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8384B-4BCB-462A-B238-1A792CF09A9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lus           (pour l’espace de travail) qubits nécess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v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es      qubits sont divisés en 2 registres    et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t   sont initialement préparés dans l’état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60360" cy="209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160360" cy="352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1616040" y="2827440"/>
            <a:ext cx="723960" cy="314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1174680" y="4003560"/>
            <a:ext cx="372960" cy="2174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5"/>
          <a:stretch/>
        </p:blipFill>
        <p:spPr>
          <a:xfrm>
            <a:off x="544680" y="4538520"/>
            <a:ext cx="139680" cy="1144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139680" cy="1778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6083280" y="4103640"/>
            <a:ext cx="144360" cy="117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6737400" y="4076640"/>
            <a:ext cx="139680" cy="177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6372360" y="4457880"/>
            <a:ext cx="291960" cy="26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843E-9841-4063-9A86-0064B34F18A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    (équivalent dans ce cas à une transform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Fourier) à    pour obtenir l’état to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68360" y="2838600"/>
            <a:ext cx="297000" cy="230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340000" y="3330720"/>
            <a:ext cx="208080" cy="1695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3352680" y="4172040"/>
            <a:ext cx="286236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C9A5-2BFD-418E-ACBA-09FD72AD384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      définie p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btient alors l’état to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327400" y="2855880"/>
            <a:ext cx="372960" cy="3571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3621240" cy="479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220920" cy="104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C4EF-6EAC-47F2-B5A1-AD4BA26EAA0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bserve    , qui donne une valeur unique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tat total devient a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                                         sont les valeurs de    p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quelles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212760" cy="271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516720" y="2781360"/>
            <a:ext cx="360360" cy="3286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2771640" y="3666960"/>
            <a:ext cx="3748320" cy="11304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927000" y="5049720"/>
            <a:ext cx="3390840" cy="2444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7020000" y="5051520"/>
            <a:ext cx="216000" cy="177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979640" y="5465880"/>
            <a:ext cx="1152360" cy="26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9C1F-1935-44BB-ABD9-E925B3C228A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è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alors la transformée de Fourier et on obt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t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1655640" cy="3618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276720" y="3973680"/>
            <a:ext cx="2447640" cy="9680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1295280" y="5354640"/>
            <a:ext cx="6732720" cy="8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AE13-9113-4599-B91C-BD51EEF73AD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btient un multiple de        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et    n’ont pas de facteur comm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suffit alors de transformer          en fraction irrédu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s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et    ont un facteur comm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lgorithme échoue alors et il faut le recomme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             répétitions nécess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792000" cy="3855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1871640" cy="4014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2637000" y="5300640"/>
            <a:ext cx="1287360" cy="3301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1476360" y="4149720"/>
            <a:ext cx="173160" cy="2365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1476360" y="3262320"/>
            <a:ext cx="174600" cy="2379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6"/>
          <a:stretch/>
        </p:blipFill>
        <p:spPr>
          <a:xfrm>
            <a:off x="2124000" y="4221000"/>
            <a:ext cx="144360" cy="1303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7"/>
          <a:stretch/>
        </p:blipFill>
        <p:spPr>
          <a:xfrm>
            <a:off x="2124000" y="3357720"/>
            <a:ext cx="144360" cy="1299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8"/>
          <a:stretch/>
        </p:blipFill>
        <p:spPr>
          <a:xfrm>
            <a:off x="5219640" y="3670200"/>
            <a:ext cx="719280" cy="3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C5870-4016-4068-8AC4-93053864E72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: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1) Cryptage 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cryptage par la clef publi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codage par clef priv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ù     peut-être facilement déterminée à partir de     et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acteurs de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Décodag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algo de Sie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3635280" y="3357720"/>
            <a:ext cx="2303640" cy="271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3635280" y="4508640"/>
            <a:ext cx="2232000" cy="322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1042920" y="5229360"/>
            <a:ext cx="114480" cy="1872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4067280" y="4005360"/>
            <a:ext cx="114120" cy="1857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4859280" y="2781360"/>
            <a:ext cx="792360" cy="360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236000" y="5229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2124000" y="56610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8"/>
          <a:stretch/>
        </p:blipFill>
        <p:spPr>
          <a:xfrm>
            <a:off x="4140360" y="5877000"/>
            <a:ext cx="4282920" cy="37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B657-A863-4788-B895-FA3BF4AEFDA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: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2) Utilisation de l’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nction périod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i    est pair,               a un facteur commun avec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n utilise alors l’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algorithme d’Euclid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pour le trou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augmentation de vit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352680" y="2797200"/>
            <a:ext cx="4098960" cy="3189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900000" y="3340080"/>
            <a:ext cx="142920" cy="1285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268360" y="3173400"/>
            <a:ext cx="1165320" cy="326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7236000" y="33228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5"/>
          <a:stretch/>
        </p:blipFill>
        <p:spPr>
          <a:xfrm>
            <a:off x="6012000" y="4437000"/>
            <a:ext cx="1152360" cy="3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7941-3150-4882-8B50-D8DBB396DC2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5DC3-9C21-437F-B709-8903264237D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Thèse de Turing-Chu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« Toute fonction qui pourrait naturellement ê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onsidérée comme calculable (décid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eut être calculée par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Machine de Turing universell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8631-8D12-4B57-AF61-A64D1DB1EF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Quantum Computer Emulator (Q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icro-instructions (MI) dépendent de l’implémentation pr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gramme écrit à partir de ces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évolution temporelle donnée par résolution de l’équation de Schröd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01F46-0279-4726-8ED0-14D74CF8DC8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jet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très ambiti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pplicable dans de nombreux problèmes (décryptage, calcul, simulation quantiqu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ise à profit de propriétés purement quantiq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h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t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jet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us les algorithmes ont été inventés après 1990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s premières réalisation pratiques réalisées après 1995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Winenland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32B5-6326-47FA-AEB0-853A2BAED05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énormes difficulté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iter les interactions avec l’environnement (phénomènes de décohérence, émission spontanée, dépolari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ériel coûteux et encombrant (cryogénie, aimants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éo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veaux algorithmes rares malgré le nombre croissant de cherch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é des codes corre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4EF9-6EF1-44F6-81C2-70C0377462E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ux types de problèmes (Gö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INDÉCID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f « 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roblème de l’arrê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mportant car permettrait de résoudre cert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lèmes mathématiques (conjectur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Goldbach par exe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DÉCID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classes de complex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B6EFB-176C-4121-A88F-671E24156A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ombre d’étap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écessaires à une machine de T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résoudre le probl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e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ô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la taille de l’entrée (généralement le nombre de bits nécessaire pour encoder le problè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e «  Hard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épend de faç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i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a taille de l’ent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e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ème dont la solution peut être vérifiée en un temps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A56C-359A-4017-8163-07C3CD2664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5B92-430C-4FAE-B6DB-D5B8374067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1:15:10Z</dcterms:created>
  <dc:creator>Maxime</dc:creator>
  <dc:description/>
  <dc:language>en-US</dc:language>
  <cp:lastModifiedBy>Maxime</cp:lastModifiedBy>
  <dcterms:modified xsi:type="dcterms:W3CDTF">2004-05-26T21:14:22Z</dcterms:modified>
  <cp:revision>141</cp:revision>
  <dc:subject/>
  <dc:title>Informatique quantique</dc:title>
</cp:coreProperties>
</file>